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beam2.wav" ContentType="audio/x-wav"/>
  <Override PartName="/ppt/media/image12.png" ContentType="image/png"/>
  <Override PartName="/ppt/media/image7.png" ContentType="image/png"/>
  <Override PartName="/ppt/media/image1.png" ContentType="image/png"/>
  <Override PartName="/ppt/media/image2.png" ContentType="image/png"/>
  <Override PartName="/ppt/media/sparcle.wav" ContentType="audio/x-wav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applause.wav" ContentType="audio/x-wav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38320" y="763200"/>
            <a:ext cx="548640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DEFBB-3DE8-4042-866F-D561C9475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38320" y="763560"/>
            <a:ext cx="548964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38320" y="763560"/>
            <a:ext cx="5492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38320" y="763560"/>
            <a:ext cx="549108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3647-4D4D-45EF-99C9-2A926D54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1E93-5463-48D4-AF08-BFB837A3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42A-9813-4DD7-AFD7-D6E43715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2E0-C0BF-4475-A9EE-3DBA5831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4C2-34D0-44B5-961B-1050F986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122-3F83-4605-8B65-50F23FA3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642-04D7-4C5E-BCC8-57815EA3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99E-CA6D-4333-9A3E-ED40FCFD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8A9E-D335-41F0-8A17-E62E36F4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033-12F8-4B18-96EB-EA601965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AA0-60C3-40EB-BEA0-9C424502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16C-20CB-4D45-9257-735C46B7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B54DE-36A6-4070-9583-2C528569DA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sparcle.wav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audio" Target="../media/beam2.wav"/><Relationship Id="rId9" Type="http://schemas.openxmlformats.org/officeDocument/2006/relationships/slideLayout" Target="../slideLayouts/slideLayout4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audio" Target="../media/sparcle.wav"/><Relationship Id="rId9" Type="http://schemas.openxmlformats.org/officeDocument/2006/relationships/slideLayout" Target="../slideLayouts/slideLayout4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audio" Target="../media/sparcle.wav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sparcle.wav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sparcle.wav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828800" y="2286000"/>
            <a:ext cx="8458200" cy="3886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Team green frogs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3360" y="186840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Q: How do hurricanes get their nam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57800" y="1828800"/>
            <a:ext cx="4425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422280" indent="-317520">
              <a:lnSpc>
                <a:spcPct val="90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The National Hurricane center is in charge of naming hurricanes &amp; tropical storms. They create a list of names for each season to more easily identify the hurricane being follow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4800600" cy="4343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200400" y="22860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Hurricane Project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>
    <p:randomBar dir="horz"/>
    <p:sndAc>
      <p:stSnd>
        <p:snd r:embed="rId3" name="sparcl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03280" y="456840"/>
            <a:ext cx="4424400" cy="622764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Q:how to prepare for a hurrica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9800" y="457200"/>
            <a:ext cx="4424400" cy="6407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 fontScale="99000"/>
          </a:bodyPr>
          <a:p>
            <a:pPr marL="339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*Get your family together in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*Prepare  your food supp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*Secure your home &amp; 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*Insurance 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*Speci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*If your home is safe stay 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*What to do when the storm h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971800" y="137160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57200" y="388620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676600" y="3886200"/>
            <a:ext cx="16668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457200" y="525780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2103480" y="5138640"/>
            <a:ext cx="1554120" cy="1033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8" name="beam2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3360" y="456840"/>
            <a:ext cx="442584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Q:how to prepare for a hurrica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57800" y="228240"/>
            <a:ext cx="4425840" cy="66610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422280" indent="-317520">
              <a:lnSpc>
                <a:spcPct val="90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Get your family together in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2280" indent="-317520">
              <a:lnSpc>
                <a:spcPct val="90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Prepare  your food supp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2280" indent="-317520">
              <a:lnSpc>
                <a:spcPct val="90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Secure your home &amp; 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2280" indent="-317520">
              <a:lnSpc>
                <a:spcPct val="90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Insurance 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2280" indent="-317520">
              <a:lnSpc>
                <a:spcPct val="90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Speci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2280" indent="-317520">
              <a:lnSpc>
                <a:spcPct val="90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If your home is safe stay 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2280" indent="-317520">
              <a:lnSpc>
                <a:spcPct val="90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What to do when the storm h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676600" y="3886200"/>
            <a:ext cx="16668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457200" y="525780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2103480" y="5138640"/>
            <a:ext cx="1554120" cy="1033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388620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8" name="sparcl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257800" y="228600"/>
            <a:ext cx="4424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You will need a radio,a plan of evacuation, water, food, a first aid kit, flashlight,cash, generator, medicine, non electric can opener &amp; sturdy sho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6629400" cy="3216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228600"/>
            <a:ext cx="4424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t">
            <a:noAutofit/>
          </a:bodyPr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  <a:ea typeface="Arial Unicode MS"/>
              </a:rPr>
              <a:t>Q: What supplies do we need to get prepared for a hurrica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3" name="sparcl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03360" y="358920"/>
            <a:ext cx="4425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: What sort of damage can a hurricanes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486400" y="457200"/>
            <a:ext cx="4425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Hurricanes can destroy anything in there path like cars, houses, windows, can also kill organisms &amp; environments They could also wipe out c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4800600"/>
            <a:ext cx="320040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3886200" cy="2057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257800" y="6942240"/>
            <a:ext cx="4765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4343400"/>
            <a:ext cx="4538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ve:this is the worst, winds blow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st 155 mph.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1480" y="3886200"/>
            <a:ext cx="452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94476b"/>
                </a:solidFill>
                <a:latin typeface="Arial"/>
              </a:rPr>
              <a:t>This is category 5 of a hurricane</a:t>
            </a:r>
            <a:r>
              <a:rPr b="1" lang="en-US" sz="1800" spc="-1" strike="noStrike">
                <a:solidFill>
                  <a:srgbClr val="94476b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  <p:sndAc>
      <p:stSnd>
        <p:snd r:embed="rId4" name="sparcl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8316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Credi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23ff23"/>
                </a:solidFill>
                <a:latin typeface="Times New Roman"/>
              </a:rPr>
              <a:t>Ask k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23ff23"/>
                </a:solidFill>
                <a:latin typeface="Times New Roman"/>
              </a:rPr>
              <a:t>Safe Search for K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23ff23"/>
                </a:solidFill>
                <a:latin typeface="Times New Roman"/>
              </a:rPr>
              <a:t>Google/Yaho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23ff23"/>
                </a:solidFill>
                <a:latin typeface="Times New Roman"/>
              </a:rPr>
              <a:t>Fact Mon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23ff23"/>
                </a:solidFill>
                <a:latin typeface="Times New Roman"/>
              </a:rPr>
              <a:t>Quintura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23ff23"/>
                </a:solidFill>
                <a:latin typeface="Times New Roman"/>
              </a:rPr>
              <a:t>Dib Dab Doo and Dilly To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  <p:sndAc>
      <p:stSnd>
        <p:snd r:embed="rId2" name="sparcl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23ff23"/>
                </a:solidFill>
                <a:latin typeface="Times New Roman"/>
              </a:rPr>
              <a:t>BY TEAM GREEN FROG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Times New Roman"/>
              </a:rPr>
              <a:t>Christina Coron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Times New Roman"/>
              </a:rPr>
              <a:t>Jennifer Gar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Times New Roman"/>
              </a:rPr>
              <a:t>Janet Martin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Times New Roman"/>
              </a:rPr>
              <a:t>Gerardo “</a:t>
            </a:r>
            <a:r>
              <a:rPr b="1" lang="en-US" sz="3200" spc="-1" strike="noStrike">
                <a:solidFill>
                  <a:srgbClr val="23ff23"/>
                </a:solidFill>
                <a:latin typeface="Times New Roman"/>
              </a:rPr>
              <a:t>did nothing</a:t>
            </a:r>
            <a:r>
              <a:rPr b="0" lang="en-US" sz="3200" spc="-1" strike="noStrike">
                <a:solidFill>
                  <a:srgbClr val="23ff23"/>
                </a:solidFill>
                <a:latin typeface="Times New Roman"/>
              </a:rPr>
              <a:t>” Espino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58200" y="5943600"/>
            <a:ext cx="1371600" cy="1371600"/>
          </a:xfrm>
          <a:prstGeom prst="star5">
            <a:avLst/>
          </a:prstGeom>
          <a:solidFill>
            <a:srgbClr val="00458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0"/>
            <a:ext cx="1371600" cy="1371600"/>
          </a:xfrm>
          <a:prstGeom prst="star5">
            <a:avLst/>
          </a:prstGeom>
          <a:solidFill>
            <a:srgbClr val="00458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200400" y="254304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8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THE END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8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6:04:06Z</dcterms:created>
  <dc:creator>Technology Services Spring Branch ISD</dc:creator>
  <dc:description/>
  <dc:language>en-US</dc:language>
  <cp:lastModifiedBy>Technology Services Spring Branch ISD</cp:lastModifiedBy>
  <dcterms:modified xsi:type="dcterms:W3CDTF">2011-06-15T14:35:46Z</dcterms:modified>
  <cp:revision>1</cp:revision>
  <dc:subject/>
  <dc:title/>
</cp:coreProperties>
</file>